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DB5D9-E27B-4BAC-B7A1-8B93A5765BA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ldImg"/>
          </p:nvPr>
        </p:nvSpPr>
        <p:spPr>
          <a:xfrm>
            <a:off x="1143000" y="685800"/>
            <a:ext cx="4572000" cy="3429000"/>
          </a:xfrm>
          <a:prstGeom prst="rect">
            <a:avLst/>
          </a:prstGeom>
          <a:ln w="0">
            <a:noFill/>
          </a:ln>
        </p:spPr>
      </p:sp>
      <p:sp>
        <p:nvSpPr>
          <p:cNvPr id="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en.wikipedia.org/wiki/Animal_cognition  this is the url for the idea of this slide</a:t>
            </a:r>
            <a:endParaRPr b="0" lang="en-US" sz="1200" spc="-1" strike="noStrike">
              <a:solidFill>
                <a:srgbClr val="000000"/>
              </a:solidFill>
              <a:latin typeface="Calibri"/>
            </a:endParaRPr>
          </a:p>
        </p:txBody>
      </p:sp>
      <p:sp>
        <p:nvSpPr>
          <p:cNvPr id="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94194-F0C3-4717-B329-E06EF83F67C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D7884E-2936-4D22-AC43-CA0B767585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D6CB2-D32C-49D5-9241-2A8266B63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4045F0-3B55-4337-AC18-D5A743123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C66448-4537-4C72-901C-96BD5F9B09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233D4-B80F-4A17-9444-5277ECA82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960FE-53E6-424D-91E3-BC17DF3A0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2E2D7-BEE2-45F3-839D-AF5361551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083FA-0ACC-48D9-A04A-F9725DBF2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D0878-F687-41FF-8829-BDFC63198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D74BC-8609-4DF6-A734-97CD17F5B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585DA-66FB-4275-896B-EDCBE2EB1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5A33E-5661-462E-8230-2D6C4BA04A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76BB5-7BDA-4E1A-906B-4144BB233AF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rot="436200">
            <a:off x="366480" y="2548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Berlin Sans FB Demi"/>
              </a:rPr>
              <a:t>Animal Cognition</a:t>
            </a:r>
            <a:endParaRPr b="0" lang="en-US" sz="5400" spc="-1" strike="noStrike">
              <a:solidFill>
                <a:srgbClr val="000000"/>
              </a:solidFill>
              <a:latin typeface="Calibri"/>
            </a:endParaRPr>
          </a:p>
        </p:txBody>
      </p:sp>
      <p:sp>
        <p:nvSpPr>
          <p:cNvPr id="49" name="PlaceHolder 2"/>
          <p:cNvSpPr>
            <a:spLocks noGrp="1"/>
          </p:cNvSpPr>
          <p:nvPr>
            <p:ph type="subTitle"/>
          </p:nvPr>
        </p:nvSpPr>
        <p:spPr>
          <a:xfrm rot="20601600">
            <a:off x="3147840" y="5455800"/>
            <a:ext cx="6400800" cy="8384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Berlin Sans FB Demi"/>
              </a:rPr>
              <a:t>Maddie L</a:t>
            </a:r>
            <a:endParaRPr b="0" lang="en-US" sz="5400" spc="-1" strike="noStrike">
              <a:solidFill>
                <a:srgbClr val="000000"/>
              </a:solidFill>
              <a:latin typeface="Calibri"/>
            </a:endParaRPr>
          </a:p>
        </p:txBody>
      </p:sp>
      <p:pic>
        <p:nvPicPr>
          <p:cNvPr id="50" name="Picture 2" descr="http://www.ephblog.com/wp-content/uploads/2009/07/ED0281_pChimpanzee-Posters.jpg"/>
          <p:cNvPicPr/>
          <p:nvPr/>
        </p:nvPicPr>
        <p:blipFill>
          <a:blip r:embed="rId1"/>
          <a:stretch/>
        </p:blipFill>
        <p:spPr>
          <a:xfrm rot="21300600">
            <a:off x="792000" y="1806480"/>
            <a:ext cx="3200400" cy="4346640"/>
          </a:xfrm>
          <a:prstGeom prst="rect">
            <a:avLst/>
          </a:prstGeom>
          <a:ln w="0">
            <a:noFill/>
          </a:ln>
        </p:spPr>
      </p:pic>
      <p:pic>
        <p:nvPicPr>
          <p:cNvPr id="51" name="Picture 4" descr="http://www.agalil.com/images/smiling-group-dolphins.jpg"/>
          <p:cNvPicPr/>
          <p:nvPr/>
        </p:nvPicPr>
        <p:blipFill>
          <a:blip r:embed="rId2"/>
          <a:stretch/>
        </p:blipFill>
        <p:spPr>
          <a:xfrm>
            <a:off x="4572000" y="2209680"/>
            <a:ext cx="345456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solidFill>
      </p:bgPr>
    </p:bg>
    <p:spTree>
      <p:nvGrpSpPr>
        <p:cNvPr id="1" name=""/>
        <p:cNvGrpSpPr/>
        <p:nvPr/>
      </p:nvGrpSpPr>
      <p:grpSpPr>
        <a:xfrm>
          <a:off x="0" y="0"/>
          <a:ext cx="0" cy="0"/>
          <a:chOff x="0" y="0"/>
          <a:chExt cx="0" cy="0"/>
        </a:xfrm>
      </p:grpSpPr>
      <p:sp>
        <p:nvSpPr>
          <p:cNvPr id="52" name="TextBox 3"/>
          <p:cNvSpPr/>
          <p:nvPr/>
        </p:nvSpPr>
        <p:spPr>
          <a:xfrm>
            <a:off x="0" y="0"/>
            <a:ext cx="8839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What is Animal Cognition?</a:t>
            </a:r>
            <a:endParaRPr b="0" lang="en-US" sz="4800" spc="-1" strike="noStrike">
              <a:solidFill>
                <a:srgbClr val="000000"/>
              </a:solidFill>
              <a:latin typeface="Calibri"/>
            </a:endParaRPr>
          </a:p>
        </p:txBody>
      </p:sp>
      <p:pic>
        <p:nvPicPr>
          <p:cNvPr id="53" name="Picture 2" descr="http://carolynbremer.com/wordpress/images/HappyDog.jpg"/>
          <p:cNvPicPr/>
          <p:nvPr/>
        </p:nvPicPr>
        <p:blipFill>
          <a:blip r:embed="rId1"/>
          <a:stretch/>
        </p:blipFill>
        <p:spPr>
          <a:xfrm>
            <a:off x="6095880" y="1143000"/>
            <a:ext cx="2857680" cy="3133800"/>
          </a:xfrm>
          <a:prstGeom prst="rect">
            <a:avLst/>
          </a:prstGeom>
          <a:ln w="0">
            <a:noFill/>
          </a:ln>
        </p:spPr>
      </p:pic>
      <p:pic>
        <p:nvPicPr>
          <p:cNvPr id="54" name="Picture 4" descr="http://www.freewebs.com/icu109/photos/alex_parrot.jpg"/>
          <p:cNvPicPr/>
          <p:nvPr/>
        </p:nvPicPr>
        <p:blipFill>
          <a:blip r:embed="rId2"/>
          <a:stretch/>
        </p:blipFill>
        <p:spPr>
          <a:xfrm>
            <a:off x="0" y="3225960"/>
            <a:ext cx="2971800" cy="3632040"/>
          </a:xfrm>
          <a:prstGeom prst="rect">
            <a:avLst/>
          </a:prstGeom>
          <a:ln w="0">
            <a:noFill/>
          </a:ln>
        </p:spPr>
      </p:pic>
      <p:sp>
        <p:nvSpPr>
          <p:cNvPr id="55" name="TextBox 9"/>
          <p:cNvSpPr/>
          <p:nvPr/>
        </p:nvSpPr>
        <p:spPr>
          <a:xfrm>
            <a:off x="0" y="914400"/>
            <a:ext cx="5943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nimal cognition is the modern title to the study of the mental capacity of non human animals. That’s fancy talk for the study of how smart animals are. This study mainly focuses on mammals such as primates, cetaceans, elephants, canidae, feline, and rodent. This study may also in non mammalian animals such as birds mainly parrot and pigeons. The study also foucus on lizards and fish and non vertabrae mainly the cetacen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a:t>
            </a:r>
            <a:endParaRPr b="0" lang="en-US" sz="4400" spc="-1" strike="noStrike">
              <a:solidFill>
                <a:srgbClr val="000000"/>
              </a:solidFill>
              <a:latin typeface="Calibri"/>
            </a:endParaRPr>
          </a:p>
        </p:txBody>
      </p:sp>
      <p:sp>
        <p:nvSpPr>
          <p:cNvPr id="57" name="Rectangle 3"/>
          <p:cNvSpPr/>
          <p:nvPr/>
        </p:nvSpPr>
        <p:spPr>
          <a:xfrm>
            <a:off x="228600" y="1219320"/>
            <a:ext cx="8915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agalil.com/images/smiling-group-dolphins.jp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ephblog.com/wp-content/uploads/2009/07/ED0281_pChimpanzee-Posters.jp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images.google.com/imgres?imgurl=http://carolynbremer.com/wordpress/images/HappyDog.jpg&amp;imgrefurl=http://www.squidoo.com/groups/dogpark&amp;usg=__jxPIM_SPvroP7lmz-cNXmEEnlkQ=&amp;h=329&amp;w=300&amp;sz=41&amp;hl=en&amp;start=4&amp;um=1&amp;tbnid=6JDNkVdttdTGuM:&amp;tbnh=119&amp;tbnw=109&amp;prev=/images%3Fq%3Ddog%26hl%3Den%26safe%3Dactive%26rlz%3D1T4SUNA_enUS347US343%26um%3D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freewebs.com/icu109/photos/alex_parrot.jp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7:44:27Z</dcterms:created>
  <dc:creator>ITSUser</dc:creator>
  <dc:description/>
  <dc:language>en-US</dc:language>
  <cp:lastModifiedBy>ITSUser</cp:lastModifiedBy>
  <dcterms:modified xsi:type="dcterms:W3CDTF">2010-01-07T18:39:37Z</dcterms:modified>
  <cp:revision>7</cp:revision>
  <dc:subject/>
  <dc:title>Top 10 Intelligent Animals</dc:title>
</cp:coreProperties>
</file>